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94B-B6D6-497D-8B07-6EA89873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F22-32D8-4130-B4E7-3B296D1E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394-96B0-4535-9656-77CFEBB6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2E-AAE2-4D9A-8152-3994BD6F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C1D-4D6D-411F-A885-44BD879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D1B-CF20-4756-A239-D8A392A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0CD-D978-4C70-B91E-7C9953EB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560-3F84-4FCC-87AB-15918AA8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826-90FC-4EDB-9DD2-577198C5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F25-3C61-409A-812D-40471C78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9A2-61A4-471A-9D5D-A37688DA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E2A-259A-405B-A86A-4FB2A02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752D-BC44-49CC-A7B9-F0B06C3011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-214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Mis documentos\Sin título-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is documentos\Sin título-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is documentos\Sin título-1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Mis documentos\Sin título-1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Mis documentos\Sin título-1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is documentos\Sin título-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Mis documentos\Sin título-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Mis documentos\Sin título-20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Mis documentos\Sin título-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is documentos\Sin título-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Mis documentos\Sin título-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Mis documentos\Sin título-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Mis documentos\Sin título-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Mis documentos\Sin título-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is documentos\Sin título-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Mis documentos\Sin título-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Mis documentos\Sin título-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Mis documentos\Sin título-1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7:05:44Z</dcterms:created>
  <dc:creator>Grupo Editorial</dc:creator>
  <dc:description/>
  <dc:language>en-US</dc:language>
  <cp:lastModifiedBy>inma</cp:lastModifiedBy>
  <dcterms:modified xsi:type="dcterms:W3CDTF">2014-09-22T15:03:02Z</dcterms:modified>
  <cp:revision>2</cp:revision>
  <dc:subject/>
  <dc:title>Sin título de diapositiva</dc:title>
</cp:coreProperties>
</file>